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6F5-8018-467F-B7E3-52E8A9E4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32D-D8FE-47F6-AFC9-1E182147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4B7-BEEA-48E9-9EBA-036ADD02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E079-27C7-4E68-9897-BBB1C73D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2F2B8-38C0-4417-B9BB-58E1B728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571179-A4A6-453B-BBEF-34ADA246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25E3F-5411-49EE-9F5A-BCF98B65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560F1-0385-44B0-A5DB-1072F45B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F64B1-EBE3-4A29-809E-DB0C8C34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18AAC5-2462-45EF-9D04-7940E58C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B3844-7333-470B-99A7-8597D6E3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35BC-B8F0-44B2-8AC5-52703D3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689D2-9B7D-4CBB-A33D-80D58987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294B84-55E6-4EF6-895E-F61147D6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CC974-2B7B-4C3F-8C29-209768F5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D9D946-63F8-4C60-9F77-DC219E10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F37587-7155-431A-B2F0-0ED214AD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2A9C-9646-47D7-A681-5969D751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6216-5971-4FF4-99C0-A7F276D9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4E6-5DB9-43BE-89DC-5B561C43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857-162B-4DED-948C-E6BFC315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B1D8-FBDC-412B-BD17-972A4B86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434-BD18-47CE-92AA-C0CB3C71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6EA0-BF34-427F-ADE7-10DABCC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5851-2B1D-44E4-B871-0EAB131E4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4C87-4757-4356-B283-80465A516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imh.nih.gov/" TargetMode="External"/><Relationship Id="rId3" Type="http://schemas.openxmlformats.org/officeDocument/2006/relationships/hyperlink" Target="http://www.vac-acc.gc.ca/" TargetMode="External"/><Relationship Id="rId4" Type="http://schemas.openxmlformats.org/officeDocument/2006/relationships/hyperlink" Target="http://en.wikipedia.org/wiki/Self-estee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ntal and Emotional Healt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nee S. Hilt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grade,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eri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sonalit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its that describe a p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go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n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hon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e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llow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rds that describ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my own self-este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3059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 Learn Mor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o 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nimh.nih.gov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vac-acc.gc.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http://en.wikipedia.org/wiki/Self-este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www.personalitypage.com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tal Health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528640"/>
            <a:ext cx="822960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of Emotional and Psychological well-being in which a person is able to meet the demands of everyday life 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ability to enjoy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553080" y="4495680"/>
            <a:ext cx="1785960" cy="173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motional Health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874960"/>
            <a:ext cx="822960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 of mental health that helps people function satisfactorily in everyday lif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ays to Promote Good Mental and Emotional Health and Deal with Stres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ake care of yourself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now when to reach out for help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actice stress management strateg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pend time with at least one friend with whom you can confid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urture your soul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rticipate in a regular activity that is fun, relaxing or creative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dentify and celebrate your successes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nfluences a Person’s Personality/Ident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c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you live in the country or city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mi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do you live with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ie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o are your friend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at do you do with your friend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ysical heal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you feel good?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often do you get sick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lf-Concept and Self-Esteem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 feel about my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I think other people view 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172200" y="4419720"/>
            <a:ext cx="212076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nefits of High Self-Este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l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p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lt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id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1480" y="4495680"/>
            <a:ext cx="2590920" cy="2133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ffects of Low Self-Este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health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el b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s to sel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400800" y="4495680"/>
            <a:ext cx="1790640" cy="188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ilience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819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le to “bounce back” in any sit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le to work through challe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1536840" cy="181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21:06:02Z</dcterms:created>
  <dc:creator>Valued Gateway Client</dc:creator>
  <dc:description/>
  <dc:language>en-US</dc:language>
  <cp:lastModifiedBy>Valued Gateway Client</cp:lastModifiedBy>
  <dcterms:modified xsi:type="dcterms:W3CDTF">2009-03-23T21:37:38Z</dcterms:modified>
  <cp:revision>25</cp:revision>
  <dc:subject/>
  <dc:title>Mental Health  is</dc:title>
</cp:coreProperties>
</file>